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809-CAD7-4EBA-A621-26741493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3D9-94A1-48D0-83C0-088256F8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10-1440-4ABB-86C5-DE03C794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FB5-38E3-4C25-BCAD-0D5E30F3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CD36-63A6-403D-AB8E-C531DA8E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189A-F46A-4E63-8D02-11E59C9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281F-9179-4BB1-8D57-21453BE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309-CDC6-4DDC-8C01-FF0A9AB0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4F4D-A845-4FD3-AC0C-32F7A89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CEC-DEE1-432B-B1C4-2B4FF11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1EF-54BE-4D37-9E0D-5533C22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B81-90DC-4B15-9B70-388BEB2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E4E1-B3DD-425B-BC28-6CBA30A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5C3-16F4-450A-8814-4845858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E93-C5AA-435F-A252-3EF69CE8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71CD-2920-4BCE-80EE-704773BC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B55C-24F0-4AA7-885A-F7160B3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23FC-ABDB-408C-816F-F4C0C2CD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84DF-EBD9-4C3D-BF9A-2A047F7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A166-7DBF-481D-8A15-CE16B33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862C-BEB8-4BE6-AB46-D6D2CD5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55F6-EB88-4D7F-AE2A-57594EDC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963-ADC0-4032-840A-6CECF8A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7567-FD09-415C-8C5D-C84673D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7D8B-73C4-4A12-930C-D5CC63B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BD5D-095E-4CB2-882D-903FAAB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4D64-7FB5-456F-ACE2-920BA59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EBF1-81C5-4CD5-B475-0D5D087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2AA0-4E8C-4589-92F3-77429AAF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A5D2-B99B-4E5A-9FEA-F5C8E42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25A-793E-4992-83F2-F860A388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FA6-D02B-4546-8EDF-14E8EAE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B84-6F1B-44F5-8912-EB90BD1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78F-3F2D-4B6E-A2E1-AEAC4C37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F41-9937-4699-A441-F43EFDF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EDB-C5D2-4314-B2EC-291FCDA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0D5A97-544B-4808-B496-C2D95486014A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4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4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2200" spc="-1" strike="noStrike">
                <a:solidFill>
                  <a:srgbClr val="000000"/>
                </a:solidFill>
                <a:latin typeface="Calisto MT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3716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3" marL="18288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2860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E3A899-9BEC-42BF-81ED-B05D83AB559F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tandardRule.png"/>
          <p:cNvPicPr/>
          <p:nvPr/>
        </p:nvPicPr>
        <p:blipFill>
          <a:blip r:embed="rId3"/>
          <a:stretch/>
        </p:blipFill>
        <p:spPr>
          <a:xfrm>
            <a:off x="2705040" y="15238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49EDAE-C845-48EB-9DEE-7F3BCDAF904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standardRule.png"/>
          <p:cNvPicPr/>
          <p:nvPr/>
        </p:nvPicPr>
        <p:blipFill>
          <a:blip r:embed="rId3"/>
          <a:stretch/>
        </p:blipFill>
        <p:spPr>
          <a:xfrm>
            <a:off x="2705040" y="33526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CPSC 203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Introduction to Computer Scienc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44197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TA: Shreya 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Email: srawal@ucalgary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CT hours: Thursday 3:00 pm–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chedu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-3: Spreadshee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1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Feb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4-6: Databas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2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7-9: Programm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3: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0-12: Desig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4: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66840" y="5225400"/>
            <a:ext cx="96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(6.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Assignments 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1: Spreadsheet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January 2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February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2: Databases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erm Project (9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ral presentation: April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to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iki part due: April 1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Spreadsheets!!!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ponents of a spreadsheet window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bb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in Toolb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ontextual Menu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ffice Butt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42" name="Content Placeholder 4" descr="CSPC203_Template_Spreadsheet_Image_1.png"/>
          <p:cNvPicPr/>
          <p:nvPr/>
        </p:nvPicPr>
        <p:blipFill>
          <a:blip r:embed="rId1"/>
          <a:srcRect l="-5557" t="0" r="-5557" b="0"/>
          <a:stretch/>
        </p:blipFill>
        <p:spPr>
          <a:xfrm>
            <a:off x="0" y="274680"/>
            <a:ext cx="9143640" cy="61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Today’s Tutorial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preadsheets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yping in some basic dat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Using the AutoFill featu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tting-up appropriate field formats, such as currency, numbers, text, etc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alculating basic statis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mportant things on wik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bs Templat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A Examp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PSC203_Template_Peop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avelogue.thmx</Template>
  <TotalTime>255</TotalTime>
  <Application>LibreOffice/7.4.7.2$Linux_X86_64 LibreOffice_project/40$Build-2</Application>
  <AppVersion>15.0000</AppVersion>
  <Words>235</Words>
  <Paragraphs>4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11:54Z</dcterms:created>
  <dc:creator>Shreya Rawal</dc:creator>
  <dc:description/>
  <dc:language>en-US</dc:language>
  <cp:lastModifiedBy>Shreya Rawal</cp:lastModifiedBy>
  <dcterms:modified xsi:type="dcterms:W3CDTF">2009-01-19T07:44:06Z</dcterms:modified>
  <cp:revision>7</cp:revision>
  <dc:subject/>
  <dc:title>CPSC 203 Introduction to Computer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